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6D8-F5AD-4A1E-8415-07E4F192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E2D-43DC-473C-946D-01CE76B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986-927F-4FD8-BF00-8E7C0384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6A6-7FE0-4BC9-996C-278F6DBE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3D8-730C-4B5E-BC8E-88723DD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569-AB88-4EE4-B593-F9F66A4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D35-5B2F-43FD-9A82-1314F56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EA4-ABEF-413B-BBF2-7408F5F1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382-9DED-4C19-8C60-5A45788D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A14-F99C-4246-9982-9DD65AD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556-13A2-447E-93FE-FD80F1AE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AC2-E2E4-4F34-A99B-938FD52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773-6F73-4E3D-BB07-D268BCFA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donkey didnt have any foo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e mised his lunch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onkey humed with Do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Donkey hummed with Dog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hat fun they ha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nkey didnt have any foo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nkey didn’t have any food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mised his lunch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 missed his lunches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He at good food on the f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he was’nt at the farm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He at good food on the f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He ate good food on the farm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he was’nt at the farm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But he wasn’t at the farm n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red a dog stori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new other storys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red a dog stori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He read a dog stori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new other storys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He knew other stories to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The donkey blue the hur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The dog stated to hum a tu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The donkey blue the hurn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nkey blew the horn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The dog stated to hum a tun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The dog started to hum a tune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onkey humed with Do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0-08T16:00:22Z</dcterms:modified>
  <cp:revision>36</cp:revision>
  <dc:subject/>
  <dc:title>Slide 1</dc:title>
</cp:coreProperties>
</file>